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9359-D749-4103-9F76-59D6C6A5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DFC9-228B-4B11-8D60-7A42B283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A5CF-34B9-4919-A867-EF7E1555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C49-DEF1-4C00-8F6F-9629A747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F52F-6925-4C96-AF93-79ADC969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5D57-128B-478B-9968-1B08A010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FACD-35A1-4801-9FF5-E7479D71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7FC4-A543-4B7C-AA1F-58CD41C1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0235-77A9-4551-A26D-70EEB51E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7784-C2C1-4034-BE3F-A12AC671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2DA9-4941-4F40-A701-51C2A604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6E63-6087-4BF8-B52C-60EB7F57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3AFA-6C8E-4401-B4E2-DB29BC6C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9B06-E584-4286-8A98-E8F48DC9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B62E-339C-45FD-B87A-5ED799B4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DB94-7CA9-4208-8315-CA900FC7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22D1-167B-4BC1-8C0F-1845547C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989-35F3-4741-8A03-52E00A91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93AF-19E2-406E-B0F5-4B79F0E3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83D7-BC3C-4875-A658-6A568B2B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2C9B-6B24-461D-B386-EFFFC658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529-493D-44E8-BE94-2DD03D7C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03D3-CBE9-4D6E-BA4B-4CDBEFF9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AF3-8D34-4366-93C2-34C4E10D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BB8B-AA4D-40EE-A894-AF54524A30A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EACB-C34B-488B-84A5-3AF0D4C9037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National Minoriti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Bolsheviks takes power)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314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ffffff"/>
                </a:solidFill>
                <a:latin typeface="Comic Sans MS"/>
              </a:rPr>
              <a:t>Georgi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ffffff"/>
                </a:solidFill>
                <a:latin typeface="Comic Sans MS"/>
              </a:rPr>
              <a:t>Ukrain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ffffff"/>
                </a:solidFill>
                <a:latin typeface="Comic Sans MS"/>
              </a:rPr>
              <a:t>Finlan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fore the revolu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part of Sweden since the twelfth centur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iven to Russia in 1808 due to Napoleons alliance with Alexander 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Finns kept their own Postal System, currency, schooling system, and die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tempts to make the whole country purely Russian only alienated the Finns and caused revolu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fter the Revolu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fter the 1905 revolution the Czar gave Finland its own Constitu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first elections were held in 1907 and the Social Democratic won 80 seats out of 200 at the Sej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 the elections in 1916 they won full majorit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nin gave a choice to be independent or to join the new Communist sta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 was surprised with the number of the nationalities that wanted to break awa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so, The Bolshevik policy was abandoned and they decided to re-establish control.Georgia become independ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ＭＳ 明朝"/>
              </a:rPr>
              <a:t>This happened in 1918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ＭＳ 明朝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ＭＳ 明朝"/>
              </a:rPr>
              <a:t>France and England eventually recognized Georgia, but offered no concrete support.(no food,no money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>
            <a:lum bright="-42000"/>
          </a:blip>
          <a:stretch/>
        </p:blipFill>
        <p:spPr>
          <a:xfrm>
            <a:off x="1828800" y="1981080"/>
            <a:ext cx="5486400" cy="34005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ook Antiqua"/>
              </a:rPr>
              <a:t>Ukrain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Ukranian nation lost their entire independence from the Russian rul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did not gain anything  :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strangelo Edessa"/>
              </a:rPr>
              <a:t>1) Economic growth was long stunt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strangelo Edessa"/>
              </a:rPr>
              <a:t>2)</a:t>
            </a:r>
            <a:r>
              <a:rPr b="0" lang="en-US" sz="2000" spc="-1" strike="noStrike">
                <a:solidFill>
                  <a:srgbClr val="ffffff"/>
                </a:solidFill>
                <a:latin typeface="Estrangelo Edess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Estrangelo Edessa"/>
              </a:rPr>
              <a:t>Gradually became a nation of priests and peasan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strangelo Edessa"/>
              </a:rPr>
              <a:t>3) Level of literacy declined (17</a:t>
            </a:r>
            <a:r>
              <a:rPr b="1" lang="en-US" sz="2000" spc="-1" strike="noStrike" baseline="30000">
                <a:solidFill>
                  <a:srgbClr val="ffffff"/>
                </a:solidFill>
                <a:latin typeface="Estrangelo Edessa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Estrangelo Edessa"/>
              </a:rPr>
              <a:t>-19</a:t>
            </a:r>
            <a:r>
              <a:rPr b="1" lang="en-US" sz="2000" spc="-1" strike="noStrike" baseline="30000">
                <a:solidFill>
                  <a:srgbClr val="ffffff"/>
                </a:solidFill>
                <a:latin typeface="Estrangelo Edessa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Estrangelo Edessa"/>
              </a:rPr>
              <a:t> century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kranian language was also banned to cut short the revival of national consciousnes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did Ukraine lose their independenc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ivil war (3 year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peasants stopped planting what would only be seized and Ukraine suffered its first famine, Lenin announced capitalism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* Ukraine split with the Bolsheviks and signed a separate treaty with Germany -191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11666" t="11665" r="1665" b="1667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4080" y="9907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p of Georgia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-54000" y="5854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eorgia became independen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ＭＳ 明朝"/>
              </a:rPr>
              <a:t>This happened in 1918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ＭＳ 明朝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ＭＳ 明朝"/>
              </a:rPr>
              <a:t>France and England eventually recognized Georgia, but offered no concrete support.(no food,no money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80ff00"/>
                </a:solidFill>
                <a:uFillTx/>
                <a:latin typeface="Comic Sans MS"/>
              </a:rPr>
              <a:t>Georgi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2209680"/>
            <a:ext cx="784836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ＭＳ 明朝"/>
              </a:rPr>
              <a:t>Georgia was briefly part of a Transcaucasian federation and then became an independent democratic state for three years under Social Democratic (Menshevik) leadership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324480" y="1752480"/>
            <a:ext cx="2640240" cy="4114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Comic Sans MS"/>
              </a:rPr>
              <a:t>Back to the Englan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ＭＳ 明朝"/>
              </a:rPr>
              <a:t>Early in 1921, apparently at Stalin's instigation, the Red Army invaded and conquered Georgi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ＭＳ 明朝"/>
              </a:rPr>
              <a:t>Leaving an estimated 10,000 dead and 20,000 deported to Siberi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became their own country in 1991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inland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322200" y="393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447920" y="1536840"/>
            <a:ext cx="6095880" cy="5321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0" y="1143000"/>
            <a:ext cx="198108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pple apple</cp:lastModifiedBy>
  <dcterms:modified xsi:type="dcterms:W3CDTF">2007-11-12T16:36:54Z</dcterms:modified>
  <cp:revision>6</cp:revision>
  <dc:subject/>
  <dc:title>Map of the Georgia</dc:title>
</cp:coreProperties>
</file>